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C612E-D6CA-4D0E-A6BF-A30E478FD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AD123-20BD-4AE9-8FFF-A95155F2B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8B89E-6A75-4769-A5F3-4D22BFA2C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6CBBF-BACC-4AB8-AA25-8073E336E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DA89C-713C-4D45-988B-F5084A13D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6A7DD-5125-4F8F-989B-73B81AA3D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934B7-4083-445D-A477-28558CE37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D11A0-52A6-4EBD-8D09-2F5F0EC71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89831-A88B-4BFC-83A9-F3D9DC33F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76D5C-7CF0-44C8-AF0D-00A3B0278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C6133-C290-4BDF-8BF7-7182D8DF8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BADE5-AB8A-4CE0-B4D2-441D79C16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AA0F5-45D4-4529-B3B5-7CEB438F2E1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836280"/>
            <a:ext cx="914400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00"/>
                </a:solidFill>
                <a:latin typeface="Arial"/>
                <a:ea typeface="华文新魏"/>
              </a:rPr>
              <a:t>天道酬勤</a:t>
            </a:r>
            <a:br>
              <a:rPr sz="8000"/>
            </a:br>
            <a:r>
              <a:rPr b="1" lang="zh-CN" sz="8000" spc="-1" strike="noStrike">
                <a:solidFill>
                  <a:srgbClr val="ff0000"/>
                </a:solidFill>
                <a:latin typeface="Arial"/>
                <a:ea typeface="华文新魏"/>
              </a:rPr>
              <a:t>宁静致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280" y="291960"/>
            <a:ext cx="8291520" cy="51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华文新魏"/>
              </a:rPr>
              <a:t>   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华文新魏"/>
              </a:rPr>
              <a:t>倚天照海花无数，</a:t>
            </a:r>
            <a:br>
              <a:rPr sz="6000"/>
            </a:b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华文新魏"/>
              </a:rPr>
              <a:t>   流水高山心自知。</a:t>
            </a:r>
            <a:br>
              <a:rPr sz="6000"/>
            </a:b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华文新魏"/>
              </a:rPr>
              <a:t>         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华文新魏"/>
              </a:rPr>
              <a:t>——曾国藩</a:t>
            </a:r>
            <a:br>
              <a:rPr sz="60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686800" cy="65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曾攻破南京后威震天下，功高盖主；同时，这也是他自立为王的最佳时机。否则兔死狗烹。因而此时也是曾国藩对称帝一事感到最犹豫最彷徨的时候，此时王闿运再度向他提出此事，他没有像以往那样怒不可扼，严词拒绝，而是进行了认真的思考，而深思的结果就是他写下那句著名的诗句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 “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倚天照海花无数，流水山高心自知。” 说的是一种人生境界，一种坚守人臣准则的精神。所以越是战功彪炳，他越是克己修身。 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黑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63640" y="333000"/>
            <a:ext cx="55548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ff00"/>
                </a:solidFill>
                <a:latin typeface="Arial"/>
                <a:ea typeface="隶书"/>
              </a:rPr>
              <a:t>名校之星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123640" y="1773360"/>
            <a:ext cx="4535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隶书"/>
              </a:rPr>
              <a:t>万国睿     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隶书"/>
              </a:rPr>
              <a:t>2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隶书"/>
              </a:rPr>
              <a:t>王志杰     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隶书"/>
              </a:rPr>
              <a:t>4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1349"/>
              </a:spcBef>
              <a:buClr>
                <a:srgbClr val="000000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隶书"/>
                <a:ea typeface="隶书"/>
              </a:rPr>
              <a:t>李德华   </a:t>
            </a:r>
            <a:r>
              <a:rPr b="1" lang="zh-CN" sz="5400" spc="-1" strike="noStrike">
                <a:solidFill>
                  <a:srgbClr val="000000"/>
                </a:solidFill>
                <a:latin typeface="隶书"/>
                <a:ea typeface="隶书"/>
              </a:rPr>
              <a:t>7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1349"/>
              </a:spcBef>
              <a:buClr>
                <a:srgbClr val="000000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隶书"/>
                <a:ea typeface="隶书"/>
              </a:rPr>
              <a:t>吴立超   </a:t>
            </a:r>
            <a:r>
              <a:rPr b="1" lang="zh-CN" sz="5400" spc="-1" strike="noStrike">
                <a:solidFill>
                  <a:srgbClr val="000000"/>
                </a:solidFill>
                <a:latin typeface="隶书"/>
                <a:ea typeface="隶书"/>
              </a:rPr>
              <a:t>99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ffffff"/>
                </a:solidFill>
                <a:latin typeface="Arial"/>
                <a:ea typeface="隶书"/>
              </a:rPr>
              <a:t>清北之星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Arial"/>
              </a:rPr>
              <a:t>我们让给谁？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Arial"/>
                <a:ea typeface="隶书"/>
              </a:rPr>
              <a:t>成功之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自主学习，自主发展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成绩进步，纪律进步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塑班形象，为班争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5080" y="271080"/>
            <a:ext cx="395928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Arial"/>
                <a:ea typeface="隶书"/>
              </a:rPr>
              <a:t>成功之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47640" y="1916280"/>
            <a:ext cx="699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高恩楠       </a:t>
            </a:r>
            <a:r>
              <a:rPr b="1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13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王建欣       </a:t>
            </a:r>
            <a:r>
              <a:rPr b="1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23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高扬         </a:t>
            </a:r>
            <a:r>
              <a:rPr b="1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19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马梦杰       </a:t>
            </a:r>
            <a:r>
              <a:rPr b="1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20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24000" y="271440"/>
            <a:ext cx="3600360" cy="7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Arial"/>
                <a:ea typeface="隶书"/>
              </a:rPr>
              <a:t>成功之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24000" y="2133720"/>
            <a:ext cx="8820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学号      姓名       期中名次   进步名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隶书"/>
                <a:ea typeface="隶书"/>
              </a:rPr>
              <a:t>62   </a:t>
            </a:r>
            <a:r>
              <a:rPr b="1" lang="zh-CN" sz="4800" spc="-1" strike="noStrike">
                <a:solidFill>
                  <a:srgbClr val="000000"/>
                </a:solidFill>
                <a:latin typeface="隶书"/>
                <a:ea typeface="隶书"/>
              </a:rPr>
              <a:t>马泽鹏  </a:t>
            </a:r>
            <a:r>
              <a:rPr b="1" lang="zh-CN" sz="4800" spc="-1" strike="noStrike">
                <a:solidFill>
                  <a:srgbClr val="000000"/>
                </a:solidFill>
                <a:latin typeface="隶书"/>
                <a:ea typeface="隶书"/>
              </a:rPr>
              <a:t>830       35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隶书"/>
                <a:ea typeface="隶书"/>
              </a:rPr>
              <a:t>17   </a:t>
            </a:r>
            <a:r>
              <a:rPr b="1" lang="zh-CN" sz="4800" spc="-1" strike="noStrike">
                <a:solidFill>
                  <a:srgbClr val="000000"/>
                </a:solidFill>
                <a:latin typeface="隶书"/>
                <a:ea typeface="隶书"/>
              </a:rPr>
              <a:t>李亚东  </a:t>
            </a:r>
            <a:r>
              <a:rPr b="1" lang="zh-CN" sz="4800" spc="-1" strike="noStrike">
                <a:solidFill>
                  <a:srgbClr val="000000"/>
                </a:solidFill>
                <a:latin typeface="隶书"/>
                <a:ea typeface="隶书"/>
              </a:rPr>
              <a:t>584       29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隶书"/>
                <a:ea typeface="隶书"/>
              </a:rPr>
              <a:t>61   </a:t>
            </a:r>
            <a:r>
              <a:rPr b="1" lang="zh-CN" sz="4800" spc="-1" strike="noStrike">
                <a:solidFill>
                  <a:srgbClr val="000000"/>
                </a:solidFill>
                <a:latin typeface="隶书"/>
                <a:ea typeface="隶书"/>
              </a:rPr>
              <a:t>吕  远  </a:t>
            </a:r>
            <a:r>
              <a:rPr b="1" lang="zh-CN" sz="4800" spc="-1" strike="noStrike">
                <a:solidFill>
                  <a:srgbClr val="000000"/>
                </a:solidFill>
                <a:latin typeface="隶书"/>
                <a:ea typeface="隶书"/>
              </a:rPr>
              <a:t>536       26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隶书"/>
                <a:ea typeface="隶书"/>
              </a:rPr>
              <a:t>43   </a:t>
            </a:r>
            <a:r>
              <a:rPr b="1" lang="zh-CN" sz="4800" spc="-1" strike="noStrike">
                <a:solidFill>
                  <a:srgbClr val="000000"/>
                </a:solidFill>
                <a:latin typeface="隶书"/>
                <a:ea typeface="隶书"/>
              </a:rPr>
              <a:t>边天元  </a:t>
            </a:r>
            <a:r>
              <a:rPr b="1" lang="zh-CN" sz="4800" spc="-1" strike="noStrike">
                <a:solidFill>
                  <a:srgbClr val="000000"/>
                </a:solidFill>
                <a:latin typeface="隶书"/>
                <a:ea typeface="隶书"/>
              </a:rPr>
              <a:t>27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555640" y="333000"/>
            <a:ext cx="360972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Arial"/>
                <a:ea typeface="隶书"/>
              </a:rPr>
              <a:t>成功之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400" y="2565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59  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王悦光  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639     17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21  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张月明  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632     14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18  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蒋长红  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872     104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66  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刘明朗  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902     12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68360" y="333000"/>
            <a:ext cx="325152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Arial"/>
                <a:ea typeface="隶书"/>
              </a:rPr>
              <a:t>成功之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26  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李欣颖  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1147    18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28  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王  杉  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1323    142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29  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尹金召  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1379    188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80  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王知临  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956     14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   </a:t>
            </a:r>
            <a:r>
              <a:rPr b="0" lang="zh-CN" sz="4000" spc="-1" strike="noStrike">
                <a:solidFill>
                  <a:srgbClr val="ffff00"/>
                </a:solidFill>
                <a:latin typeface="隶书"/>
                <a:ea typeface="隶书"/>
              </a:rPr>
              <a:t>世界上能登上金字塔的生物有两种</a:t>
            </a:r>
            <a:r>
              <a:rPr b="0" lang="zh-CN" sz="4000" spc="-1" strike="noStrike">
                <a:solidFill>
                  <a:srgbClr val="ffff00"/>
                </a:solidFill>
                <a:latin typeface="隶书"/>
                <a:ea typeface="隶书"/>
              </a:rPr>
              <a:t>:</a:t>
            </a:r>
            <a:r>
              <a:rPr b="0" lang="zh-CN" sz="4000" spc="-1" strike="noStrike">
                <a:solidFill>
                  <a:srgbClr val="ffff00"/>
                </a:solidFill>
                <a:latin typeface="隶书"/>
                <a:ea typeface="隶书"/>
              </a:rPr>
              <a:t>一种是鹰，一种是蜗牛。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不管是天资奇佳的鹰，还是资质平庸的蜗牛，能登上塔尖，极目四望，俯视万里，都离不开两个字——勤奋。没有勤奋的精神，哪怕是天资奇佳的雄鹰也只能空振羽翅望塔兴叹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;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而有了勤奋的精神，哪怕是行动迟缓的蜗牛也能雄踞塔顶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611280" y="691920"/>
            <a:ext cx="807552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人也一样，有天赋的人由于后天的不努力和惰性，只会让先前的天赋渐渐消失，好比曾经渴望登上金字塔的鹰，失去勤奋会让原本能翱翔的羽翼退化，失去飞翔的能力。没有天赋的人只要后天勤于付出，即使是行动最迟缓的蜗牛， </a:t>
            </a:r>
            <a:r>
              <a:rPr b="0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努力时时刻刻</a:t>
            </a:r>
            <a:r>
              <a:rPr b="0" lang="zh-CN" sz="3600" spc="-1" strike="noStrike">
                <a:solidFill>
                  <a:srgbClr val="ff0000"/>
                </a:solidFill>
                <a:latin typeface="华文行楷"/>
                <a:ea typeface="华文行楷"/>
              </a:rPr>
              <a:t>，</a:t>
            </a:r>
            <a:r>
              <a:rPr b="0" lang="zh-CN" sz="4400" spc="-1" strike="noStrike">
                <a:solidFill>
                  <a:srgbClr val="ff0000"/>
                </a:solidFill>
                <a:latin typeface="华文新魏"/>
                <a:ea typeface="华文新魏"/>
              </a:rPr>
              <a:t>进步点点滴滴</a:t>
            </a:r>
            <a:r>
              <a:rPr b="0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也能登上塔顶</a:t>
            </a: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。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请每一个人记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  <a:ea typeface="隶书"/>
              </a:rPr>
              <a:t>谦虚使人进步，骄傲使人落后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  <a:ea typeface="方正舒体"/>
              </a:rPr>
              <a:t>懒惰使人缺少羞耻之心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7240" y="274320"/>
            <a:ext cx="776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ccecff"/>
                </a:solidFill>
                <a:latin typeface="Arial"/>
                <a:ea typeface="楷体_GB2312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0" y="1628640"/>
            <a:ext cx="3398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Times New Roman"/>
                <a:ea typeface="隶书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332000" y="1773360"/>
            <a:ext cx="648180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ahoma"/>
                <a:ea typeface="隶书"/>
              </a:rPr>
              <a:t>好学者如禾如稻，惰学者如蒿如草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1907640" y="1125000"/>
            <a:ext cx="5699160" cy="482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华文新魏"/>
              </a:rPr>
              <a:t>莫道君行早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华文新魏"/>
              </a:rPr>
              <a:t>踏遍青山人未老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方正舒体"/>
              </a:rPr>
              <a:t>               ——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方正舒体"/>
              </a:rPr>
              <a:t>毛泽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016000" y="271440"/>
            <a:ext cx="489744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张溥读书必七录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0" y="692280"/>
            <a:ext cx="9144000" cy="44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张溥，明神宗万历三十年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60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年）出生在江苏太仓的一个书香门第。他天资较差，小时候读书过目即忘。但并不气馁，而是想办法来克服这个缺点。有一次，他在读书过程中偶尔发现了一篇有关董遇读书故事的文章，其中“读书百遍其义自见”的一句话给了他很大启发。他想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人家读一篇文章，有个七八遍就能够背诵了，而我读了一二十遍却还只能断断续续地背个大概，这差异不能不承认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835280" y="2349000"/>
            <a:ext cx="7772400" cy="36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79280" y="549360"/>
            <a:ext cx="871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可是，我再怎么笨，只要多背几遍，保证每篇文章都读一百遍，不也能记住吗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?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从此，他就开始这么做了起来。 这些枯燥乏味的文章，要重复地读上一百遍，别说一个七八岁的孩子，就是一个大人也会觉得厌烦的。可张溥硬是不厌其烦地坚持下来。口渴了，他就舀一瓢凉水喝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;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嗓子哑了，他就把声音放低一点……苦读了一段时间，他终于能连贯地背出文章来了，这使他异常高兴。</a:t>
            </a: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95280" y="620640"/>
            <a:ext cx="8497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836640"/>
            <a:ext cx="8497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826920" y="1052640"/>
            <a:ext cx="84981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1280" y="907920"/>
            <a:ext cx="324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可是他发现白天背得挺熟的，第二天一觉醒来，又忘得差不多了，这又使他十分焦虑，他决心寻找出一种更为有效的读书方法。因为没有背下来文章，张溥被先生罚抄书，他却因此意外地发现，抄书之后自己会背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因为没有背下来文章，张溥被先生罚抄书，他却因此意外地发现，抄书之后自己会背了。从此以后，张溥读书必手抄，读后又随即焚去，再抄，再读，再焚，如此六七次方休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11280" y="260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原来天资较差、记性不好的张溥，靠着这种读书“七录”的扎实工夫，终于获得了渊博的学识，成了著名的文学家。他著书立说，思路敏捷，文笔流畅，内容深邃，颇得好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1476360" y="4365360"/>
            <a:ext cx="691344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千里之行，始于足下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376000" y="271080"/>
            <a:ext cx="381636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  <a:ea typeface="华文新魏"/>
              </a:rPr>
              <a:t>天道酬勤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曾国藩是中国历史上最有影响的人物之一，但是他却并不聪明。小时候，有一天夜里在家读书，对一篇文章重复不知道多少遍了，还在朗读，因为他还没有背下来。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539640" y="9079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这时候他家来了一个贼，潜伏在屋檐下，希望等他睡觉之后捞点好处。可是等啊等，就是不见他睡觉，还是翻来覆去地读那篇文章。贼人大怒，跳出来说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:“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这种水平读什么书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?”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然后将那文章背诵一遍，扬长而去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-360" y="259920"/>
            <a:ext cx="8893080" cy="65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贼人是很聪明，至少比曾国藩要聪，但是他只能成为贼，而曾国藩却成为让毛泽东主席都钦佩的人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:“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近代最有大本大源的人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。”“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勤能补拙是良训，一分辛苦一分收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。”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那贼的记忆力真好，听过几遍的文章就能背下来，而且很勇敢，见别人不睡觉居然可以跳出来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大怒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，教训曾国藩之后，还要背书，扬长而去。但是遗憾的是，他的天赋没有加上勤奋，变得不知所终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4T02:38:00Z</dcterms:created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3T20:38:31Z</dcterms:modified>
  <cp:revision>1</cp:revision>
  <dc:subject>主题班会课件(分28大类): http://shop62905894.taobao.com</dc:subject>
  <dc:title>主题班会课件(分28大类): http://shop62905894.taobao.com</dc:title>
</cp:coreProperties>
</file>